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493D-8AD6-4851-B0FA-53B94EEC6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yarp::dev::IPositionControl *p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yarp::dev::IEncoders *enc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yarp::dev::IControlMode *ictr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yarp::dev::IImpedanceControl *ii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yarp::dev::ITorqueControl *itrq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CD55-0276-43B1-B712-984DE6BB3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DCF-48A2-4021-886D-559BA43C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828-C212-4236-A987-93E38DBC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C35-84E1-484A-8593-FBB3C925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DB8-91CE-4E91-988C-23385281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3CF-D940-4355-B96A-4E639255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88D-19AE-4F50-81CC-CC272CD4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561-082B-4AAC-88CD-104DE8CA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3E9-1870-43F3-B2A7-D8227B87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9000"/>
            <a:ext cx="8232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872-4719-464B-8CA2-EDF86C7B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A6C-6E0C-4B3D-B007-7E3911EF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F92-F493-4FDA-A387-C823ECA4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194-89D1-4946-A226-1A781B28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57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5AAD-583F-4C53-A2FD-077ECA0A0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rce Motor Contro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VVV2011 Tutori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rancesco Nor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281320" y="1581120"/>
            <a:ext cx="1393920" cy="1087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008760" y="1549440"/>
            <a:ext cx="1393920" cy="108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4222440" y="2400480"/>
            <a:ext cx="1494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t pos 0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t vel 1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t enc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12"/>
          <p:cNvSpPr/>
          <p:nvPr/>
        </p:nvSpPr>
        <p:spPr>
          <a:xfrm>
            <a:off x="3819600" y="2017800"/>
            <a:ext cx="2138400" cy="411120"/>
          </a:xfrm>
          <a:prstGeom prst="rightArrow">
            <a:avLst>
              <a:gd name="adj1" fmla="val 50000"/>
              <a:gd name="adj2" fmla="val 4994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13"/>
          <p:cNvSpPr/>
          <p:nvPr/>
        </p:nvSpPr>
        <p:spPr>
          <a:xfrm rot="10800000">
            <a:off x="3816000" y="1647720"/>
            <a:ext cx="2141640" cy="409680"/>
          </a:xfrm>
          <a:prstGeom prst="rightArrow">
            <a:avLst>
              <a:gd name="adj1" fmla="val 50000"/>
              <a:gd name="adj2" fmla="val 500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209120" y="969840"/>
            <a:ext cx="1011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c is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394280" y="1009800"/>
            <a:ext cx="2407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ote_control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026400" y="1025640"/>
            <a:ext cx="232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er_control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778360" y="609480"/>
            <a:ext cx="2959200" cy="3468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5791680" y="225360"/>
            <a:ext cx="1761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or/iCu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1871640" y="4240080"/>
            <a:ext cx="30762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rpc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state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command: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5688360" y="4240080"/>
            <a:ext cx="30092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/left_arm/rpc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/left_arm/state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/left_arm/command: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804600" y="1411200"/>
            <a:ext cx="1688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osition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locity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IControl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Torque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Impedance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561960" y="457200"/>
            <a:ext cx="1279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552600" y="969840"/>
            <a:ext cx="3395520" cy="2949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>
            <a:off x="2240640" y="158256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onMov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Encoder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5049720" y="1792440"/>
            <a:ext cx="2729160" cy="31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365880" y="2873520"/>
            <a:ext cx="1249200" cy="1495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962680" y="1830240"/>
            <a:ext cx="129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6571440" y="2944800"/>
            <a:ext cx="98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iceDri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2135520" y="2387520"/>
            <a:ext cx="1683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n(param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13"/>
          <p:cNvCxnSpPr/>
          <p:nvPr/>
        </p:nvCxnSpPr>
        <p:spPr>
          <a:xfrm>
            <a:off x="4064040" y="2558520"/>
            <a:ext cx="154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14"/>
          <p:cNvCxnSpPr/>
          <p:nvPr/>
        </p:nvCxnSpPr>
        <p:spPr>
          <a:xfrm>
            <a:off x="4041360" y="4601880"/>
            <a:ext cx="154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15"/>
          <p:cNvSpPr/>
          <p:nvPr/>
        </p:nvSpPr>
        <p:spPr>
          <a:xfrm>
            <a:off x="2044800" y="4376880"/>
            <a:ext cx="90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17"/>
          <p:cNvCxnSpPr/>
          <p:nvPr/>
        </p:nvCxnSpPr>
        <p:spPr>
          <a:xfrm flipH="1">
            <a:off x="4025520" y="2987280"/>
            <a:ext cx="156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21"/>
          <p:cNvSpPr/>
          <p:nvPr/>
        </p:nvSpPr>
        <p:spPr>
          <a:xfrm>
            <a:off x="1952280" y="280980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1952280" y="322272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9"/>
          <p:cNvSpPr/>
          <p:nvPr/>
        </p:nvSpPr>
        <p:spPr>
          <a:xfrm>
            <a:off x="6367680" y="3135240"/>
            <a:ext cx="71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35"/>
          <p:cNvCxnSpPr/>
          <p:nvPr/>
        </p:nvCxnSpPr>
        <p:spPr>
          <a:xfrm>
            <a:off x="3859200" y="3858840"/>
            <a:ext cx="23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TextBox 36"/>
          <p:cNvSpPr/>
          <p:nvPr/>
        </p:nvSpPr>
        <p:spPr>
          <a:xfrm>
            <a:off x="1950840" y="362268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7"/>
          <p:cNvSpPr/>
          <p:nvPr/>
        </p:nvSpPr>
        <p:spPr>
          <a:xfrm>
            <a:off x="1950840" y="398772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38"/>
          <p:cNvCxnSpPr/>
          <p:nvPr/>
        </p:nvCxnSpPr>
        <p:spPr>
          <a:xfrm>
            <a:off x="3871800" y="4130280"/>
            <a:ext cx="2363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Rectangle 39"/>
          <p:cNvSpPr/>
          <p:nvPr/>
        </p:nvSpPr>
        <p:spPr>
          <a:xfrm>
            <a:off x="1828800" y="1862280"/>
            <a:ext cx="227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1793880" y="1793880"/>
            <a:ext cx="2433600" cy="331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52"/>
          <p:cNvCxnSpPr/>
          <p:nvPr/>
        </p:nvCxnSpPr>
        <p:spPr>
          <a:xfrm flipH="1">
            <a:off x="4034880" y="3447720"/>
            <a:ext cx="153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ontrolMode: Position mo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2" descr=""/>
          <p:cNvPicPr/>
          <p:nvPr/>
        </p:nvPicPr>
        <p:blipFill>
          <a:blip r:embed="rId1"/>
          <a:stretch/>
        </p:blipFill>
        <p:spPr>
          <a:xfrm>
            <a:off x="371520" y="1547640"/>
            <a:ext cx="83152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ontrolMode: Velocity mo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2" descr=""/>
          <p:cNvPicPr/>
          <p:nvPr/>
        </p:nvPicPr>
        <p:blipFill>
          <a:blip r:embed="rId1"/>
          <a:stretch/>
        </p:blipFill>
        <p:spPr>
          <a:xfrm>
            <a:off x="371520" y="1547640"/>
            <a:ext cx="83152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ontrolMode: Torque mo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Content Placeholder 2" descr=""/>
          <p:cNvPicPr/>
          <p:nvPr/>
        </p:nvPicPr>
        <p:blipFill>
          <a:blip r:embed="rId1"/>
          <a:stretch/>
        </p:blipFill>
        <p:spPr>
          <a:xfrm>
            <a:off x="371520" y="1547640"/>
            <a:ext cx="83152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ontrolMode: Impedance Position mo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2" descr=""/>
          <p:cNvPicPr/>
          <p:nvPr/>
        </p:nvPicPr>
        <p:blipFill>
          <a:blip r:embed="rId1"/>
          <a:stretch/>
        </p:blipFill>
        <p:spPr>
          <a:xfrm>
            <a:off x="371520" y="1547640"/>
            <a:ext cx="880272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ontrolMode: Impedance Velocity mo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2" descr=""/>
          <p:cNvPicPr/>
          <p:nvPr/>
        </p:nvPicPr>
        <p:blipFill>
          <a:blip r:embed="rId1"/>
          <a:stretch/>
        </p:blipFill>
        <p:spPr>
          <a:xfrm>
            <a:off x="378000" y="1407960"/>
            <a:ext cx="876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</dc:creator>
  <dc:description/>
  <dc:language>en-US</dc:language>
  <cp:lastModifiedBy>iron</cp:lastModifiedBy>
  <dcterms:modified xsi:type="dcterms:W3CDTF">2011-07-22T10:03:24Z</dcterms:modified>
  <cp:revision>17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